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2C4-F55B-4987-A115-F1A94918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5B7-E831-4AE2-8D20-3A0CBA8D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5D4-5A62-4C5D-90C4-1BB0FBFF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452-0776-4852-A5C6-BEAB222F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85C-AE0B-4299-8226-483AB0DE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8A0-1B35-49D7-9C1F-14185176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E75-F0BF-4966-BBA2-67DA368D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14A-FDEA-4531-93AE-2CF0D458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D55-BD3C-4825-9105-04707F83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673-27A2-4E36-8DEB-CA6EF1A8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EAA-7E4A-4D2C-B9C5-5FB18F31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495-9C0D-4B02-9A10-556EE4BE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7200" y="6496200"/>
            <a:ext cx="190512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5/12/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48480" y="6495840"/>
            <a:ext cx="249552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enQ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ocionek – Klebsch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6/0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/1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8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#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fld id="{3B8FF251-18E0-4449-838D-67D00BC65CF2}" type="slidenum">
              <a:rPr b="1" lang="zh-TW" sz="1000" spc="-1" strike="noStrike">
                <a:solidFill>
                  <a:srgbClr val="000000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457200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Uwe Schmitz, Karsten Rudol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Munich, March 20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51240"/>
            <a:ext cx="80755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Status „PLM Excellence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U2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From Proto-Agile to Full Ag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FD7-C8FF-4FF5-9AF8-D1B6C2C63C1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8086680" y="2462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559400" y="2257560"/>
            <a:ext cx="4262400" cy="403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ransition backlog reviewd, prioritization ongo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sulting contract, team and schedule and with Object Mentors agr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uby project:: first 4 Scrum teams in WRO finished their sprint with excellent results (high motivation, good achievements, positive experience and results with TDD by Unit testin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poxi: first Scrum teams started in W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prioritization of transition backlog and Sprin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compose architecture of Ruby with OM on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fine and implement Scrum based requirements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fine detailed training schedule and content with 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etup Scrum teams in MCH and increase number in W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307360" y="2453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8246880" y="2211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8511840" y="2453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E87-9F06-4C8B-85EA-1FC29303F8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U2 as practice in all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460600"/>
            <a:ext cx="417852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Wallchart quality improved by additional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U2 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eam competition fostered by presenting U2 wallcharts and Shopping lists in team floors in WRO and MCH and K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dicated U2 project control room established in MCH (E3.Rotunde 2nd flo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 comparable ranking between teams of different platforms (Bundesligatabel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987-82F3-4FF3-8CA8-A9B226F2CA90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Karsten Rudolph</cp:lastModifiedBy>
  <dcterms:modified xsi:type="dcterms:W3CDTF">2006-03-20T11:27:14Z</dcterms:modified>
  <cp:revision>348</cp:revision>
  <dc:subject/>
  <dc:title>PowerPoint 簡報</dc:title>
</cp:coreProperties>
</file>